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D3E0-4686-4CB0-B52E-50C26D6A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B4F0-161F-4E65-9C42-3C955222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BA9C-C1F6-4D41-81F9-95E8D546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867F-54F9-4ABB-B148-C0F22F72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E14C-3385-43FA-93AE-B9D5E20A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F8AA-440F-4812-ACF0-4F71E9D8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3E98-4A97-4FFE-BD64-9F0D567A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6534-0207-4F7D-B6D1-E4AF1539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DA5D-A320-487E-AC12-40D2E0A9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9DC0-A39A-4B89-A1D2-508FE3F0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886F-1310-41F3-BD8D-5E20C217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360A-B349-4362-9A32-1AF8E50E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CAA0-0501-4833-8750-583266BA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4B9B-F774-475C-AE5A-7C5E2D42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4C98-210C-48D7-9136-55595E14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712-2891-477A-AB7B-30548327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DE5D-502E-4A03-BBDF-CAD24A49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2D6A-8819-4C37-8466-053F7DE2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2CB7-3137-46AD-A086-1FBCA152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DA19-2BC7-495C-8E72-7F1CCE48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260E-154B-4677-8412-1448CF39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858DF-600F-402C-BE20-5D9443C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C055C-2947-4D6E-BE9C-71EADB2A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0DE2E-5BE5-44DC-8617-68DC629C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3563-069C-4CE2-A1DC-DC9B7D74BE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CC23-8CC9-4FE3-9093-8C85EC44A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B97D-FF92-4EF7-8E70-A666E872F0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05:49Z</dcterms:modified>
  <cp:revision>46</cp:revision>
  <dc:subject/>
  <dc:title>CAP Cryptographic Analysis Program</dc:title>
</cp:coreProperties>
</file>